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865C-FC1D-4AEC-80A5-B1EA10F85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3B34-199D-47DC-9AAE-7651C751E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A1DA-2B2B-4AD5-BFE4-B7877A84A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CD02-D6AA-48F9-9716-46518AAD3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2D9B-F7FF-4755-8D7B-616E0223F6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5EB8-2925-41EF-A7D7-DB9219CDAD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87BD-A8CC-4209-8E0D-4A87EEAFA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C61E-61AE-43B4-9393-5A8C25506F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9738-1100-4AF3-913C-15E8268A2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A206-0C79-4A7D-8B65-20D4F13A8D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ADD0-CFDC-4A9B-88C1-28EE5D82E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B006-D5F6-465A-ACB2-B50508479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7A68-16A3-481C-9A66-F52D29D875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F1AA-2FE7-4FCD-AE82-753DB005E2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ACDE-FE82-4DFE-90C1-EA45F626FD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712C-F225-474C-9F21-5243C67124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2C49-168C-4278-A4EA-B24872E19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152A-4AE0-45EC-89BA-D29E2EE42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C99B-C890-4E4F-91F9-4FA5CA76D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7F31-740E-4C61-B82B-E5C6D432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6E90-3EF7-4B2C-9128-A133C4649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68F1-7AD9-479B-AB68-9CA4D61CA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E718-33D5-4DCF-BD55-2BEB86B64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A4F4-8BB8-4A02-907F-CE06BEA25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5F52-75A7-46B9-A716-9920A92FE4A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7d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9999cc"/>
              </a:buClr>
              <a:buSzPct val="68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sldNum" idx="2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2B7-1849-4D7A-8DEE-0C46BF16DC8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8000"/>
          </a:bodyPr>
          <a:p>
            <a:pPr marL="22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ighbeam.com/doc/1G1-155041084.html" TargetMode="External"/><Relationship Id="rId2" Type="http://schemas.openxmlformats.org/officeDocument/2006/relationships/hyperlink" Target="http://www.routledge.com/books/details/9780415493468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ytimes.com/roomfordebate/2010/12/12/stress-and-the-high-school-student/homeworks-diminishing-returnssafsfsfasf" TargetMode="External"/><Relationship Id="rId2" Type="http://schemas.openxmlformats.org/officeDocument/2006/relationships/hyperlink" Target="http://ehis.ebscohost.com.ez-proxy.brooklyn.cuny.edu:2048/ehost/detail?sid=3bdcd655-4395-4aee-9065-e77bc5ff288e@sessionmgr4&amp;vid=1&amp;hid=3&amp;bdata=JnNpdGU9ZWhvc3QtbGl2ZQ==" TargetMode="External"/><Relationship Id="rId3" Type="http://schemas.openxmlformats.org/officeDocument/2006/relationships/hyperlink" Target="http://ehis.ebscohost.com.ez-proxy.brooklyn.cuny.edu:2048/ehost/detail?sid=8b90dfbe-3df9-4919-a310-b1b12889ed74@sessionmgr112&amp;vid=1&amp;hid=124&amp;bdata=JnNpdGU9ZWhvc3QtbGl2ZQ==" TargetMode="External"/><Relationship Id="rId4" Type="http://schemas.openxmlformats.org/officeDocument/2006/relationships/hyperlink" Target="http://www.highbeam.com/doc/1G1-155041084.html" TargetMode="External"/><Relationship Id="rId5" Type="http://schemas.openxmlformats.org/officeDocument/2006/relationships/hyperlink" Target="http://www.routledge.com/books/details/9780415493468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664240" y="4622760"/>
            <a:ext cx="36194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Lauren P. B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CBSE 7201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Fal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60240"/>
            <a:ext cx="9194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Homework Support for Twice-Exceptional Stud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lowell, E., &amp; Ratey, J. (2011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Driven to distraction: Recognizing and coping with attention deficit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c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hes, P. (2012). An autoethnographic approach to understanding asperger's syndrome: A personal exploration of self-identity through reflexive narrativ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ritish 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94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son, P., Skirrow, P., &amp; Hare, D. (2012). Asperger through the looking glass: An exploratory study of self-understanding in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autism &amp; developmental disor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687-7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: a teaching tool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n, A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homework myth: why our kids get too much of a bad th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 Capo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gy, R., DeRuvo, S., &amp; Rosenthal, D. (2007). Recognizing ADHD: primary symptoms and common impairm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eaching young children with ADHD: Successful strategies and practical interventions for prek-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2-24). Thousand Oaks, CA: Corwin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off, S., Dawson, G., &amp; McPartland, J. (2002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 parent’s guide to asperger syndrome and high-functioning autis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The Guilford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k, L., Sofronoff, K., Sheffield, J., White, A., &amp; Kelly, A. (2012). Co-occurring anger in young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clinical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, 1142-11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5480" y="469800"/>
            <a:ext cx="7507440" cy="9715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A2DF-F5BA-4795-8C02-4C6F1A138BC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57200" y="806400"/>
            <a:ext cx="8242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A: Parent Consent Fo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39680" y="582480"/>
            <a:ext cx="7086600" cy="9171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F14-FCDB-4958-A2A9-625064639C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57200" y="844560"/>
            <a:ext cx="824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B: Head of School Consent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44600" y="425520"/>
            <a:ext cx="824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C: Surv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6880" y="1257480"/>
            <a:ext cx="78613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urvey in development. Below are the statements students will mark with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a, s or n</a:t>
            </a: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 to repres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always, sometimes or n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(a) always                      (s) sometimes                         (n)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omework is a challenge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t home, I get started on my work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submit homework on time on Mo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y parents help me make homework a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en I do homework and have a question, I ask for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I complete homework with 100%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 get started on my work independently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Homework is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For me, homework is e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I make homework a rou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71680" y="546120"/>
            <a:ext cx="8242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D: Current Time Managemen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228600" y="977760"/>
            <a:ext cx="929628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4600" y="469800"/>
            <a:ext cx="82422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Appendix E: Proposed Time Managemen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03040" y="1219320"/>
          <a:ext cx="8712360" cy="5244840"/>
        </p:xfrm>
        <a:graphic>
          <a:graphicData uri="http://schemas.openxmlformats.org/drawingml/2006/table">
            <a:tbl>
              <a:tblPr/>
              <a:tblGrid>
                <a:gridCol w="1468080"/>
                <a:gridCol w="1434600"/>
                <a:gridCol w="1452600"/>
                <a:gridCol w="1452240"/>
                <a:gridCol w="1452240"/>
                <a:gridCol w="1452600"/>
              </a:tblGrid>
              <a:tr h="684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Mo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Tues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W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Thu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Fr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11365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re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P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Brahe Ke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and write  </a:t>
                      </a:r>
                      <a:r>
                        <a:rPr b="0" lang="en-US" sz="1200" spc="-1" strike="noStrike">
                          <a:solidFill>
                            <a:srgbClr val="558e28"/>
                          </a:solidFill>
                          <a:latin typeface="Times New Roman"/>
                          <a:ea typeface="Times New Roman"/>
                        </a:rPr>
                        <a:t>Brahe Ke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58e28"/>
                          </a:solidFill>
                          <a:latin typeface="Times New Roman"/>
                          <a:ea typeface="Times New Roman"/>
                        </a:rPr>
                        <a:t>Brahe Kepler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  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d and print a </a:t>
                      </a:r>
                      <a:r>
                        <a:rPr b="0" lang="en-US" sz="1200" spc="-1" strike="noStrike">
                          <a:solidFill>
                            <a:srgbClr val="66b132"/>
                          </a:solidFill>
                          <a:latin typeface="Times New Roman"/>
                          <a:ea typeface="Times New Roman"/>
                        </a:rPr>
                        <a:t>tide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2712"/>
                          </a:solidFill>
                          <a:latin typeface="Times New Roman"/>
                          <a:ea typeface="Times New Roman"/>
                        </a:rPr>
                        <a:t>Rea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 </a:t>
                      </a:r>
                      <a:r>
                        <a:rPr b="0" lang="en-US" sz="1200" spc="-1" strike="noStrike">
                          <a:solidFill>
                            <a:srgbClr val="d90b00"/>
                          </a:solidFill>
                          <a:latin typeface="Times New Roman Italic"/>
                          <a:ea typeface="Times New Roman Italic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268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d9a00"/>
                          </a:solidFill>
                          <a:latin typeface="Times New Roman"/>
                          <a:ea typeface="Times New Roman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 one idea to </a:t>
                      </a:r>
                      <a:r>
                        <a:rPr b="0" lang="en-US" sz="1200" spc="-1" strike="noStrike">
                          <a:solidFill>
                            <a:srgbClr val="fcbd00"/>
                          </a:solidFill>
                          <a:latin typeface="Times New Roman"/>
                          <a:ea typeface="Times New Roman"/>
                        </a:rPr>
                        <a:t>Idea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 one idea to </a:t>
                      </a:r>
                      <a:r>
                        <a:rPr b="0" lang="en-US" sz="1200" spc="-1" strike="noStrike">
                          <a:solidFill>
                            <a:srgbClr val="fcbd00"/>
                          </a:solidFill>
                          <a:latin typeface="Times New Roman"/>
                          <a:ea typeface="Times New Roman"/>
                        </a:rPr>
                        <a:t>Idea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88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4343400"/>
                          <a:tab algn="ctr" pos="5029200"/>
                          <a:tab algn="ctr" pos="5715000"/>
                          <a:tab algn="ctr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44fe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dcc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a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600" y="2146320"/>
            <a:ext cx="82422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lated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A - Parent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B - Head of School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C -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D - Current Tim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E - Proposed Tim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8360" y="1460520"/>
            <a:ext cx="311148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12800"/>
            <a:ext cx="8242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 is underserved and hardly recognized in both the public and private school sectors. At The Lang School, we are serving a small population of dynamic young students eager to share their talents and interested in problem solving when learning challenges arise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67160" y="325116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Statement of the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12800"/>
            <a:ext cx="8242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ng a double-sided time management graphic organizer as a cover page on weekly homework packets will motivate six elementary students for ten weeks at a twice exceptional, private, K-8 school in Battery Park, New York to complete homework accurately and submit hom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052880" y="3378240"/>
            <a:ext cx="4597560" cy="3416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35040" y="4533840"/>
            <a:ext cx="3429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*Assignment pages with BLANK weekly calendars are the current norm in the C4/5 classroom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9960" y="3467160"/>
            <a:ext cx="351792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9800" y="1625760"/>
            <a:ext cx="81914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double-sided time management graphic organizer, the proposed tool being printed on the backside of existing weekly homework cover pages, implemented once per week over a ten week period will increase homework accuracy and submission timel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Research 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55600" y="1225440"/>
            <a:ext cx="2603520" cy="3378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62440" y="1878120"/>
            <a:ext cx="35686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Learning Disab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480" y="4457880"/>
            <a:ext cx="425448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tructured routines, repetition, sensory simplicity and graphic organizers are recommended for children on the spectrum and/or with ADH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llowell &amp; Ratey, 2011);  (Hughes, 2012);  (Jackson, Skirrow &amp; Hare, 2012); (Ozonoff, Dawson &amp; McPartland, 2002); (Quek, Sofronoff, Sheffield, White &amp; Kelly, 2012);  (Shaywitz, 2005); (Stewart, 2007); (Sugarman, 20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5680" y="3822840"/>
            <a:ext cx="227340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57920" y="2197080"/>
            <a:ext cx="210816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44600" y="469800"/>
            <a:ext cx="824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Gifted &amp; Talen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Twice-Exceptional (2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92440" y="2743200"/>
            <a:ext cx="4000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Strengths-based, hands-on and individualized academics recommend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rger, 2003); (Moon, Swift &amp; Shallenberger, 2002); (Robinson &amp; Campbell, 2010); (Amend, Schuler, Beaver-Gavin &amp; Beights, 2009); (Anonymous, 2006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41413"/>
                </a:solidFill>
                <a:latin typeface="Times New Roman"/>
                <a:ea typeface="Times New Roman"/>
              </a:rPr>
              <a:t>(Assouline, Foley Nicpon, Colangelo, &amp; O’Brien, 2008)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um, Cooper &amp; Neu, 2001); (Foley, Allmon, Sieck &amp; Stinson, 2011); (Jeweler, Barnes-Robinson, Shevitz &amp; Weinfeld, 2008); (Lewandowski, 2009); (Gilger &amp; Hynd, 2008); (Yssel, Prater &amp; Smith,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17720" y="2487600"/>
            <a:ext cx="61974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" y="666720"/>
            <a:ext cx="824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Executive Func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4160" y="1549440"/>
            <a:ext cx="824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xplicit targeting of lagging cognitive skills/metacognitive processes coupled with goal setting is recommend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oper-Kahn &amp; Dietzel, 2008); (Lougy, DeRuvo &amp; Rosenthal, 2007); (Cooper, 2010); (Kohn, 2007); (Worrell, Gabelko, Roth &amp; Samuels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, E., Schuler, P., Beaver-Gavin, K., &amp; Beights, R. D. (2009). A unique challenge: Sorting out the difference between giftedness and asperger's disord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57-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. (2006). Strategies that work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uline, S., Foley Nicpon, M., Colangelo, N., &amp; O’Brien, M. (2008). How can gifted students also have a diagnosis of an autism spectrum disorder?. In S. Assouline (Ed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paradox of giftedness and autism packet of information for professionals (PIP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owa: The University of Iowa Belin-Blank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, S., Cooper, C., &amp; Neu, T. (2001). Dual differentiation: An approach for meeting the curricular needs of gifted students with learning disabiliti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logy in the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477-4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ger, R. (2003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n ethic of excellence: Building a culture of craftsmanship with stud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inema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, H. (2010, December 12). Homework's diminishing return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new york times: The opinion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nytimes.com/roomfordebate/2010/12/12/stress-and-the-high-school-student/homeworks-diminishing-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-Kahn, J., &amp; Dietzel, L. (2008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Late, lost, and unprepared: A parents' guide to helping children with executive functio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Bethesda, MD: Woodbin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ey Nicpon, M., Allmon, A., Sieck, B., &amp; Stinson, R. D. (2011). Empirical investig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: Where have we been and where are we going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-1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his.ebscohost.com.ez-proxy.brooklyn.cuny.edu:2048/ehost/detail?sid=3bdcd655-4395-4aee-9065-e77bc5ff288e@sessionmgr4&amp;vid=1&amp;hid=3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r, J. W., &amp; Hynd, G. W. (2008). Neurodevelopmental variation as a framework for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he twice exceptiona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Roeper 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214-228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ehis.ebscohost.com.ez-proxy.brooklyn.cuny.edu:2048/ehost/detail?sid=8b90dfbe-3df9-4919-a310-b1b12889ed74@sessionmgr112&amp;vid=1&amp;hid=124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lowell, E., &amp; Ratey, J. (2011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Driven to distraction: Recognizing and coping with attention deficit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c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ghes, P. (2012). An autoethnographic approach to understanding asperger's syndrome: A personal exploration of self-identity through reflexive narrativ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British 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94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son, P., Skirrow, P., &amp; Hare, D. (2012). Asperger through the looking glass: An exploratory study of self-understanding in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autism &amp; developmental disor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687-7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: a teaching tool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n, A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he homework myth: why our kids get too much of a bad th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 Capo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gy, R., DeRuvo, S., &amp; Rosenthal, D. (2007). Recognizing ADHD: primary symptoms and common impairm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Teaching young children with ADHD: Successful strategies and practical interventions for prek-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p. 22-24). Thousand Oaks, CA: Corwin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off, S., Dawson, G., &amp; McPartland, J. (2002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A parent’s guide to asperger syndrome and high-functioning autis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 ed.). The Guilford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k, L., Sofronoff, K., Sheffield, J., White, A., &amp; Kelly, A. (2012). Co-occurring anger in young people with asperg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clinical psych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, 1142-114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ywitz, S. (2005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vercoming dyslexia: A new and complete science-based program for reading problems at any lev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1st ed.). Vi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wart, K. (2007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Helping a child with nonverbal learning disorder or asperger’s disor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2 ed.). New Harbinger Pub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arman, A. (2011). Psychoanalyzing a vulcan: The importance of mental organization in treating asperger's pati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analytic inqui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, 222-23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7600" indent="0">
              <a:lnSpc>
                <a:spcPct val="100000"/>
              </a:lnSpc>
              <a:buNone/>
              <a:tabLst>
                <a:tab algn="l" pos="0"/>
                <a:tab algn="l" pos="50760"/>
                <a:tab algn="l" pos="6224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Ramakkan</dc:creator>
  <dc:description/>
  <dc:language>en-US</dc:language>
  <cp:lastModifiedBy/>
  <cp:revision>0</cp:revision>
  <dc:subject/>
  <dc:title>Helping Our ELL Students Succeed: Finding the Right Setting</dc:title>
</cp:coreProperties>
</file>